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3DFE-8015-4E8C-821C-650692C0BD2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D51A1-07E2-475B-9A68-ADC59DEA8DA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E2B5-2367-424E-B57F-44C0F7CA7A4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deas that are interesting/important/original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- the writing must have purpose and engage the reade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Structure that is logical and effectiv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- the ordering of information and ideas (from micro to macro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Voice that is individual/appropri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- how the writing feels to the reader through the expression of the 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writer. Formal/casual... Dreamy/military... etc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Language that is specific, fluent and expressiv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368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- using the right words to convey correct meaning in writing that flows and creates the desired emo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Conventions that are correct and communicativ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- the ways we all agree to use punctuation, spelling, grammar, and other things that make writing consistent and easy to rea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AC79-8744-4418-BA42-C6A9A52A16C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F839-6EA1-4FAE-BD5B-528A59821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D803-3E0D-45B5-9969-26230E88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0BEB-56C6-455B-AC97-897F21A4F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FC22-1F59-4CAB-80BE-0AC4DA21D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6334-D306-4233-A830-62AB1A520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D704-9336-428E-A350-47DE57C6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943D-B807-4162-BAA3-00AC16DF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E274-68A4-432C-9A6D-9C2E97B8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0835-649A-4C11-B652-FC45BB9B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FABD-326E-4C9F-89CA-2C3755D0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2F8D-EF48-4007-8CDB-55567120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0D99-35B8-4FF6-8F65-2ACCCFA4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B43E-F4BB-4A7C-8472-CB2F3D72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B2A2-9028-44B4-8C9C-9355D4FA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E9C5-B35D-4230-8928-CE1E5502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3DF0-4320-4228-93A6-5AFFEC6BE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5AF3-E729-4C05-A7D0-ACEFCBA8E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3B035-E56B-4BD8-8645-A70A8F56E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0FBEC-A065-44B4-850C-EBD9ECE6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3B98B-4991-4C12-A860-5449D88D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FA549-5009-4F3D-93D9-E900FE37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38A47-ADD7-4F94-AE48-3FAE5574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A3DB-2074-4B80-80C4-3152E929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CC47D-C125-4FB0-9366-C86DA311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46684-2694-492F-9B70-7BAADBFB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1CE40-6793-45D8-A389-F62F5B23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5344F-6824-494D-9B03-0B7ED3B7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3EF91-04DA-408C-AEC8-9DDD7D8E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65E88-DD7D-44A1-A4AF-6FB3E5E8D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54595-588F-4561-B1F4-F90791872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EBA76-C210-46DF-8224-0CAEE11C1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6780B-F590-49A3-8AF5-9EAA94A5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7FF8C-4210-431E-9522-AC7DDFDC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6BEA-1D68-4320-80A4-73AC5C2E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0C9DD-8476-430F-B4DB-A2779D00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2A1CA-088F-422D-8992-7FD5562E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3EA8B-B28A-45E3-9D58-3CE444E7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1F31A-1283-48DB-838B-033B6A50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78776-175A-43A2-8B3E-7F355CD5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8A5FF-7159-41F9-9E67-E89C1D76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CD1E7-7570-467F-8F19-C4C87941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3A795-5990-49C5-9ABB-66FE3AE03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DE33E-F2A7-4DEA-83D3-9DC8ECC59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75561-9CE6-4F9E-B22B-4FBDDEC1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6E69-F9CE-44DA-BC5D-FF57DB7A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5818B-9B52-4E1F-8F47-391D8A8F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E0FBE-54AD-45B7-9DB8-7FAE5845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72BF3-EEE6-40B7-9701-EF0E07E5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A9444-D03C-42C9-A029-962CEF21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C2751-FA19-4B94-9E8C-46DB008E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3E000-3E3B-4823-AF38-DB7D2569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33A9F-7B64-4196-9BDF-5ACD7F78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6A886-927A-445E-8CA3-2F7F0E9A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C6CAC-FE9E-4A05-90B9-8AF61922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4E06E-B080-4A1A-AEDD-FA9FB29DD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1053-B6CF-4033-A634-797514C2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C4A4E-B85F-43AE-90DE-5EBDE522F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2CA7-8941-44E8-A7E0-1ACE2809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67D7-97BB-4ADD-83D7-03E2F0F6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7341-E40E-4E5F-A29F-D526873A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626551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26551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626551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3B4E-FE88-471E-B5AA-4DCE470E8198}" type="slidenum">
              <a:rPr b="0" lang="en-GB" sz="1200" spc="-1" strike="noStrike">
                <a:solidFill>
                  <a:srgbClr val="62655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0E1D-B817-406A-BDCF-AFB8802E3A5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b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fe0d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fe0d4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fe0d4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2E34-3C0C-432B-95B0-F95B03420001}" type="slidenum">
              <a:rPr b="0" lang="en-GB" sz="1200" spc="-1" strike="noStrike">
                <a:solidFill>
                  <a:srgbClr val="dfe0d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b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fe0d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fe0d4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fe0d4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2F5F-1450-4CDC-BBDE-77939DCEE215}" type="slidenum">
              <a:rPr b="0" lang="en-GB" sz="1200" spc="-1" strike="noStrike">
                <a:solidFill>
                  <a:srgbClr val="dfe0d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626551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26551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626551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4920-C198-4350-9B46-B5225A208E4E}" type="slidenum">
              <a:rPr b="0" lang="en-GB" sz="1200" spc="-1" strike="noStrike">
                <a:solidFill>
                  <a:srgbClr val="62655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611280" y="946080"/>
            <a:ext cx="7939080" cy="593892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roduction to Creative 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33200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1859c"/>
                </a:solidFill>
                <a:latin typeface="Calibri"/>
              </a:rPr>
              <a:t>What is ‘Good’ Writ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6"/>
          <p:cNvSpPr/>
          <p:nvPr/>
        </p:nvSpPr>
        <p:spPr>
          <a:xfrm>
            <a:off x="3276720" y="5950080"/>
            <a:ext cx="2663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© Sophie Playle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ww.sophieplayl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c7483"/>
                </a:solidFill>
                <a:latin typeface="Calibri"/>
              </a:rPr>
              <a:t>Summing Up...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28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20000"/>
              </a:lnSpc>
              <a:spcBef>
                <a:spcPts val="49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re are many subjective (personal) criteria of ‘good’ writing, e.g. style, subject matter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20000"/>
              </a:lnSpc>
              <a:spcBef>
                <a:spcPts val="49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re are also more objective (widely accepted) criteria of what constitutes ‘good’ writing, e.g. clarity, appropriateness of voice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20000"/>
              </a:lnSpc>
              <a:spcBef>
                <a:spcPts val="49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re is sometimes a lot of cross-over between the two categories. There is no strict right or wrong answer. In order to create ‘good’ writing, the writer must consider these poi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8" name="Group 5"/>
          <p:cNvGrpSpPr/>
          <p:nvPr/>
        </p:nvGrpSpPr>
        <p:grpSpPr>
          <a:xfrm>
            <a:off x="395280" y="5013360"/>
            <a:ext cx="8280360" cy="1557000"/>
            <a:chOff x="395280" y="5013360"/>
            <a:chExt cx="8280360" cy="1557000"/>
          </a:xfrm>
        </p:grpSpPr>
        <p:sp>
          <p:nvSpPr>
            <p:cNvPr id="269" name="TextBox 3"/>
            <p:cNvSpPr/>
            <p:nvPr/>
          </p:nvSpPr>
          <p:spPr>
            <a:xfrm>
              <a:off x="395280" y="5084640"/>
              <a:ext cx="8280360" cy="1252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b0cc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alibri"/>
                </a:rPr>
                <a:t>You should now be confident in your ability to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alibri"/>
                </a:rPr>
                <a:t>Discuss and recognise the different ways of defining ‘good’ writing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Box 4"/>
            <p:cNvSpPr/>
            <p:nvPr/>
          </p:nvSpPr>
          <p:spPr>
            <a:xfrm>
              <a:off x="7596360" y="5013360"/>
              <a:ext cx="9349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600" spc="-1" strike="noStrike">
                  <a:solidFill>
                    <a:srgbClr val="3c7483"/>
                  </a:solidFill>
                  <a:latin typeface="Wingdings"/>
                  <a:ea typeface="Wingdings"/>
                </a:rPr>
                <a:t>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611280" y="946080"/>
            <a:ext cx="7939080" cy="593892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  <a:ea typeface="Courier New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68000" y="2133720"/>
            <a:ext cx="511164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By the end of this session you will be able to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iscuss and recognise the different ways of defining ‘good’ writ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spcBef>
                <a:spcPts val="550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ctiv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spcBef>
                <a:spcPts val="550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Feedback and group discus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spcBef>
                <a:spcPts val="550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ubjective and objective viewpoi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spcBef>
                <a:spcPts val="550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ini quiz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3"/>
          <p:cNvSpPr/>
          <p:nvPr/>
        </p:nvSpPr>
        <p:spPr>
          <a:xfrm>
            <a:off x="468360" y="119700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c7483"/>
                </a:solidFill>
                <a:latin typeface="Calibri"/>
              </a:rPr>
              <a:t>Today’s Les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3" descr=""/>
          <p:cNvPicPr/>
          <p:nvPr/>
        </p:nvPicPr>
        <p:blipFill>
          <a:blip r:embed="rId2"/>
          <a:stretch/>
        </p:blipFill>
        <p:spPr>
          <a:xfrm>
            <a:off x="5364000" y="1989000"/>
            <a:ext cx="342756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c7483"/>
                </a:solidFill>
                <a:latin typeface="Calibri"/>
              </a:rPr>
              <a:t>Activity: Rank the Extracts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94920" y="2204640"/>
            <a:ext cx="43210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-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 pairs (or small groups),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ank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three writing examples from ‘best’ to ‘worst’ writing. You should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iscus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the reasons for your decisions with your partner(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member: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here is no right or wrong answ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ime: 5 m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6" descr=""/>
          <p:cNvPicPr/>
          <p:nvPr/>
        </p:nvPicPr>
        <p:blipFill>
          <a:blip r:embed="rId2"/>
          <a:stretch/>
        </p:blipFill>
        <p:spPr>
          <a:xfrm>
            <a:off x="4788000" y="2205000"/>
            <a:ext cx="390816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700000" y="1196640"/>
            <a:ext cx="598644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ight City was like a deranged experiment in social Darwinism, designed by a bored researcher who kept one thumb permanently on the fast-forward button. Stop hustling and you sank without a trace, but move a little too swiftly and you'd break the fragile surface tension of the black market; either way, you were gone, with nothing left of you but some vague memory in the mind of a fixture like Ratz, though heart or lungs or kidneys might survive in the service of some stranger with New Yen for the clinic tank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Neuromancer,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illiam Gibson, 198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209556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2916000" y="1341360"/>
            <a:ext cx="58417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lucidity, the clarity of the light that afternoon was sufficient to itself; perfect transparency must be impenetrable, these vertical bars of a brass-coloured distillation of light coming down from sulphur-yellow interstices in a sky hunkered with grey clouds that bulge with more rain. It struck the wood with nicotine-stained fingers, the leaves glittered. A cold day of late October, when the withered blackberries dangled like their own dour spooks on the discoloured bramb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 ‘The Erl King’ from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The Bloody Chamber,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ngela Carter, 197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21592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2771280" y="1196640"/>
            <a:ext cx="591516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ll that they gave me, my brothers, was a crappy starry mirror to look into, and indeed I was not your handsome young Narrator any longer but a real strack of a sight, my rot swollen and my glazzies all red and my nose bumped a bit also. They all had a real horrowshow smeck when they viddied my like dismay, and one of them said: 'Love's young nightmare like.' And then a top millicent came in with like stars on his pletchoes to show he was high high high, and he viddied me and said: 'Hm.' So then they star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A Clockwork Orange,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nthony Burgess, 196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" indent="-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2"/>
          <a:stretch/>
        </p:blipFill>
        <p:spPr>
          <a:xfrm>
            <a:off x="539640" y="1197000"/>
            <a:ext cx="201636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c7483"/>
                </a:solidFill>
                <a:latin typeface="Calibri"/>
              </a:rPr>
              <a:t>Subjectivity – Personal Preference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68360" y="220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Genre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– elements that make up a predetermined formul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Subject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– what the book is about (intrigue, character..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Style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– how the book is written (language, narration..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Era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– when the book was written &amp; the perception of the 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 tim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Social influences 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– recommendation, prizes, movies.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106200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c7483"/>
                </a:solidFill>
                <a:latin typeface="Calibri"/>
              </a:rPr>
              <a:t>Objectivity </a:t>
            </a:r>
            <a:r>
              <a:rPr b="1" lang="en-GB" sz="2400" spc="-1" strike="noStrike">
                <a:solidFill>
                  <a:srgbClr val="3c7483"/>
                </a:solidFill>
                <a:latin typeface="Calibri"/>
              </a:rPr>
              <a:t>– Widely Accepted Criteria for ‘Good’ Writing</a:t>
            </a:r>
            <a:endParaRPr b="0" lang="en-US" sz="2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68360" y="215856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deas that are interesting/important/origin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tructure that is logical and effe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Voice that is individual/appropri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Language that is specific, fluent and express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onventions that are correct and communica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276720" y="1341000"/>
            <a:ext cx="42480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c7483"/>
                </a:solidFill>
                <a:latin typeface="Calibri"/>
              </a:rPr>
              <a:t>Super Fun Mini Quiz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68360" y="2781360"/>
            <a:ext cx="842472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160" indent="-111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. 'Good' writing can mean different things to different peop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160" indent="-111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b050"/>
                </a:solidFill>
                <a:latin typeface="Calibri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160" indent="-111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160" indent="-111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. The enjoyment of rococo (elaborately ornamental) prose, like    the Angela Carter extract B, is an example of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160" indent="-111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ubjective (personal) prefer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160" indent="-111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160" indent="-111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3. Making up words is a trait of 'bad' writ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160" indent="-111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160" indent="-1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4" descr="C:\Users\Sophie\AppData\Local\Microsoft\Windows\Temporary Internet Files\Content.IE5\EZQCOX28\MC900440572[1].png"/>
          <p:cNvPicPr/>
          <p:nvPr/>
        </p:nvPicPr>
        <p:blipFill>
          <a:blip r:embed="rId2"/>
          <a:stretch/>
        </p:blipFill>
        <p:spPr>
          <a:xfrm>
            <a:off x="900000" y="260280"/>
            <a:ext cx="21592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13:52:19Z</dcterms:created>
  <dc:creator>Sophie Playle</dc:creator>
  <dc:description/>
  <dc:language>en-US</dc:language>
  <cp:lastModifiedBy>Owner</cp:lastModifiedBy>
  <dcterms:modified xsi:type="dcterms:W3CDTF">2012-09-05T13:32:25Z</dcterms:modified>
  <cp:revision>48</cp:revision>
  <dc:subject/>
  <dc:title>Slide 1</dc:title>
</cp:coreProperties>
</file>